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E7193-0F9E-47A7-B1A5-1F4EF005E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D1EFA-A199-48F2-B7A8-DA5FDB388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1A713-0D6F-40FE-BF0B-FB990028B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A67A3-FAE0-4727-AFBC-B59BE70CC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9B913-00C0-424C-83E7-39CD8806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3BC4D-1D3D-4188-9925-63A00D82C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D600A-535A-4FFA-896B-3F55F9739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134DB-F928-488D-9485-684D7A739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DE481-BB03-4521-BB40-47C070549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6F0BC-52B0-42FF-8350-9C2E0AC3D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38B66-0965-459D-93CD-D720688BF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A7448-E1B4-43C7-A388-502AE8820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A228-F3AB-49A1-9C71-B7BA68F5B08E}"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omic Sans MS"/>
              </a:rPr>
              <a:t>Modell der vollständigen Handlung</a:t>
            </a:r>
            <a:br>
              <a:rPr sz="1600"/>
            </a:br>
            <a:r>
              <a:rPr b="1" lang="de-DE" sz="1600" spc="-1" strike="noStrike">
                <a:solidFill>
                  <a:srgbClr val="000000"/>
                </a:solidFill>
                <a:latin typeface="Comic Sans MS"/>
              </a:rPr>
              <a:t>                                                                  aus Wikipedia</a:t>
            </a:r>
            <a:endParaRPr b="0" lang="en-US" sz="1600" spc="-1" strike="noStrike">
              <a:solidFill>
                <a:srgbClr val="000000"/>
              </a:solidFill>
              <a:latin typeface="Times New Roman"/>
            </a:endParaRPr>
          </a:p>
        </p:txBody>
      </p:sp>
      <p:sp>
        <p:nvSpPr>
          <p:cNvPr id="42" name="PlaceHolder 2"/>
          <p:cNvSpPr>
            <a:spLocks noGrp="1"/>
          </p:cNvSpPr>
          <p:nvPr>
            <p:ph/>
          </p:nvPr>
        </p:nvSpPr>
        <p:spPr>
          <a:xfrm>
            <a:off x="685800" y="2285640"/>
            <a:ext cx="77724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rmieren </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e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tscheide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sführe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ontrollstuf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wertung</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rmationen weitergeb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formiere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r/die Auszubildende soll eine möglichst komplexe Aufgabe bekommen. Um diese Aufgabe zu lösen, muss er sich zuerst die nötigen Informationen beschaffen. Diese Informationsbeschaffung kann er selbstständig ausführen, er kann aber je nach Wissensstand und Erfahrungshorizont von der Lehrkraft angeleitet werden. Er muss sich z. B. fragen: Was ist das Ziel? Was ist das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lane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im Planen soll der/die Auszubildende möglichst selbstständig einen Arbeitsablauf erstellen, er/sie kann aber je nach Wissensstand und Erfahrungshorizont von der Lehrkraft angeleitet werden. Er/sie muss sich z. B. fragen: Was brauche ich an Informationen, an Hintergrundwissen oder an Materialien bzw. Werkzeugen?</a:t>
            </a:r>
            <a:br>
              <a:rPr sz="2800"/>
            </a:b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ntscheiden</a:t>
            </a:r>
            <a:endParaRPr b="0" lang="en-US" sz="4400" spc="-1" strike="noStrike">
              <a:solidFill>
                <a:srgbClr val="000000"/>
              </a:solidFill>
              <a:latin typeface="Times New Roman"/>
            </a:endParaRPr>
          </a:p>
        </p:txBody>
      </p:sp>
      <p:sp>
        <p:nvSpPr>
          <p:cNvPr id="48" name="PlaceHolder 2"/>
          <p:cNvSpPr>
            <a:spLocks noGrp="1"/>
          </p:cNvSpPr>
          <p:nvPr>
            <p:ph/>
          </p:nvPr>
        </p:nvSpPr>
        <p:spPr>
          <a:xfrm>
            <a:off x="-360" y="1981080"/>
            <a:ext cx="88390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nn die Planung abgeschlossen ist, führt der/die Auszubildende ein Fachgespräch mit der Lehrkraft bzw. </a:t>
            </a:r>
            <a:r>
              <a:rPr b="0" lang="en-US" sz="3200" spc="-1" strike="noStrike">
                <a:solidFill>
                  <a:srgbClr val="000000"/>
                </a:solidFill>
                <a:latin typeface="Comic Sans MS"/>
              </a:rPr>
              <a:t>Ausbildern.</a:t>
            </a:r>
            <a:r>
              <a:rPr b="0" lang="en-US" sz="2800" spc="-1" strike="noStrike">
                <a:solidFill>
                  <a:srgbClr val="000000"/>
                </a:solidFill>
                <a:latin typeface="Comic Sans MS"/>
              </a:rPr>
              <a:t> Hier wird der Arbeitsablauf überprüft und entschieden, wie er letztlich umgesetzt wird. Er/sie muss sich z. B. fragen: Welchen Lösungsweg nehme ich? Dieses Fachgespräch kann die Lehrkraft auch mit der ganzen Klasse oder mit kleineren Lerngruppen führen. Dabei ist entscheidend, ob ein Lösungsweg für alle Auszubildenden maßgeblich ist oder ob individuelle Lösungen akzeptiert wer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usführen</a:t>
            </a:r>
            <a:endParaRPr b="0" lang="en-US" sz="4400" spc="-1" strike="noStrike">
              <a:solidFill>
                <a:srgbClr val="000000"/>
              </a:solidFill>
              <a:latin typeface="Times New Roman"/>
            </a:endParaRPr>
          </a:p>
        </p:txBody>
      </p:sp>
      <p:sp>
        <p:nvSpPr>
          <p:cNvPr id="50" name="PlaceHolder 2"/>
          <p:cNvSpPr>
            <a:spLocks noGrp="1"/>
          </p:cNvSpPr>
          <p:nvPr>
            <p:ph/>
          </p:nvPr>
        </p:nvSpPr>
        <p:spPr>
          <a:xfrm>
            <a:off x="0" y="1676520"/>
            <a:ext cx="91440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Hier führt der/die Auszubildende selbstständig die erforderlichen Arbeitsschritte, die er in der Arbeitsplanung erarbeitet hat, aus. Dabei ist es sinnvoll, die Auszubildenden zur Teamarbeit zu befähigen. Die Auszubildenden können je nach Wissensstand und Erfahrungshorizont von der Lehrkraft angeleitet werden. Die Unterrichts-planung liegt nach wie vor bei der Lehrkraft, diese soll den Auszubildenden Freiräume ermöglichen, die diese sinnvoll nutzen können. Dabei ist es immer von Klasse und Thema abhängig (Bedingungsanalyse</a:t>
            </a:r>
            <a:r>
              <a:rPr b="0" lang="de-DE" sz="2800" spc="-1" strike="noStrike">
                <a:solidFill>
                  <a:srgbClr val="000000"/>
                </a:solidFill>
                <a:latin typeface="Times New Roman"/>
              </a:rPr>
              <a:t>), </a:t>
            </a:r>
            <a:r>
              <a:rPr b="0" lang="de-DE" sz="2800" spc="-1" strike="noStrike">
                <a:solidFill>
                  <a:srgbClr val="000000"/>
                </a:solidFill>
                <a:latin typeface="Comic Sans MS"/>
              </a:rPr>
              <a:t>wie viel Freiraum notwendig und möglich ist.</a:t>
            </a:r>
            <a:br>
              <a:rPr sz="2800"/>
            </a:br>
            <a:r>
              <a:rPr b="0" lang="de-DE"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Kontrollstuf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Hier findet möglichst selbstständig ein Soll-Ist-Vergleich statt. Diese Kontrolle kann als Selbstbewertung, als Bewertung innerhalb der eigenen Arbeitsgruppe oder auch im Klassenverband stattfinden: Ist der Arbeitsauftrag sachgerecht und fachgerecht ausgeführt? Ist das Ziel erreich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ewertung</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Der/die Auszubildende soll das Arbeitsergebnis möglichst selbstständig bewerten. Er/sie soll lernen, seine/ihre eigenen Handlungen zu reflektieren. Er/sie muss sich z. B. fragen: Was kann ich in Zukunft besser machen? Die Bewertung wird auch durch die Lehrkraft erfolgen. Diese müssen aber ihre Kriterien vorher offenlegen und dem Auszubildenden begründen.</a:t>
            </a:r>
            <a:br>
              <a:rPr sz="2800"/>
            </a:br>
            <a:r>
              <a:rPr b="0" lang="de-DE"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formationen weitergebe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mit auch andere Auszubildende etwas lernen, ist es wichtig, dass Informationen weitergegeben werden.</a:t>
            </a:r>
            <a:br>
              <a:rPr sz="3200"/>
            </a:b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omic Sans MS"/>
              </a:rPr>
              <a:t>Modell der vollständigen Handlung</a:t>
            </a:r>
            <a:br>
              <a:rPr sz="1600"/>
            </a:br>
            <a:r>
              <a:rPr b="1" lang="de-DE" sz="1600" spc="-1" strike="noStrike">
                <a:solidFill>
                  <a:srgbClr val="000000"/>
                </a:solidFill>
                <a:latin typeface="Comic Sans MS"/>
              </a:rPr>
              <a:t>                                                                  aus Wikipedia</a:t>
            </a:r>
            <a:endParaRPr b="0" lang="en-US" sz="1600" spc="-1" strike="noStrike">
              <a:solidFill>
                <a:srgbClr val="000000"/>
              </a:solidFill>
              <a:latin typeface="Times New Roman"/>
            </a:endParaRPr>
          </a:p>
        </p:txBody>
      </p:sp>
      <p:sp>
        <p:nvSpPr>
          <p:cNvPr id="58" name="PlaceHolder 2"/>
          <p:cNvSpPr>
            <a:spLocks noGrp="1"/>
          </p:cNvSpPr>
          <p:nvPr>
            <p:ph/>
          </p:nvPr>
        </p:nvSpPr>
        <p:spPr>
          <a:xfrm>
            <a:off x="685800" y="2285640"/>
            <a:ext cx="77724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rmieren </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e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tscheide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sführe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ontrollstuf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wertung</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rmationen weitergeb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16:47:19Z</dcterms:created>
  <dc:creator>Leitenberger</dc:creator>
  <dc:description/>
  <dc:language>en-US</dc:language>
  <cp:lastModifiedBy>aka_es</cp:lastModifiedBy>
  <dcterms:modified xsi:type="dcterms:W3CDTF">2008-06-03T11:53:45Z</dcterms:modified>
  <cp:revision>3</cp:revision>
  <dc:subject/>
  <dc:title> 8 Literatur  Informieren [Bearbeiten] Der/die Auszubildende soll eine möglichst komplexe Aufgabe bekommen. Um diese Aufgabe zu lösen, muss er sich zuerst die nötigen Informationen beschaffen. Diese Informationsbeschaffung kann er selbstständig ausführen, er kann aber je nach Wissensstand und Erfahrungshorizont von der Lehrkraft angeleitet werden. Er muss sich z. B. fragen: Was ist das Ziel? Was ist das Problem?  Kontrollstufe [Bearbeiten] Hier findet möglichst selbstständig ein Soll-Ist-Vergleich statt. Diese Kontrolle kann als Selbstbewertung, als Bewertung innerhalb der eigenen Arbeitsgruppe oder auch im Klassenverband stattfinden: Ist der Arbeitsauftrag sachgerecht und fachgerecht ausgeführt? Ist das Ziel erreicht? Bewertung [Bearbeiten] Der/die Auszubildende soll das Arbeitsergebnis möglichst selbstständig bewerten. Er/sie soll lernen, seine/ihre eigenen Handlungen zu reflektieren. Er/sie muss sich z. B. fragen: Was kann ich in Zukunft besser machen? Die Bewertung wird auch durch die Lehrkraft erfolgen. Diese müssen aber ihre Kriterien vorher offenlegen und dem Auszubildenden begründen. Informationen weitergeben [Bearbeiten] Damit auch andere Auszubildende etwas lernen, ist es wichtig, dass Informationen weitergegeben werden. </dc:title>
</cp:coreProperties>
</file>